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6AF-9662-440F-8D9A-BC31083A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E7C-13C9-45C6-97F2-8454B02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DA6-7615-47E6-A959-D20AB0F6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0A8-B5A9-4A89-B021-79BC02AF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C04-8259-4A0D-AC5E-00D416F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088-BB7C-4D8C-91F8-170EF5C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55A-D080-4E56-B47E-14FDD77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424-392C-404D-A343-B232736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1CE-CC65-4DEC-B595-6AB352F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455-B897-41D4-9F4F-F78EDC1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09D-B51D-4A1D-BA31-0403C31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2D0-A9FD-49DE-9A73-045D5D8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05C-BE13-4062-8B92-6F3BA588F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сень.wma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57200" y="2133720"/>
            <a:ext cx="829620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О  СВИДАНЬЯ,</a:t>
            </a:r>
            <a:endParaRPr b="1" lang="en-US" sz="8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СЕНЬ!</a:t>
            </a:r>
            <a:endParaRPr b="1" lang="en-US" sz="8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28600" y="6019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Стихи И. Яворовской    Музыка А. Кудряш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6166"/>
          <p:cNvPicPr/>
          <p:nvPr/>
        </p:nvPicPr>
        <p:blipFill>
          <a:blip r:embed="rId1"/>
          <a:stretch/>
        </p:blipFill>
        <p:spPr>
          <a:xfrm>
            <a:off x="3809880" y="3168720"/>
            <a:ext cx="480240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4246"/>
          <p:cNvPicPr/>
          <p:nvPr/>
        </p:nvPicPr>
        <p:blipFill>
          <a:blip r:embed="rId1"/>
          <a:stretch/>
        </p:blipFill>
        <p:spPr>
          <a:xfrm>
            <a:off x="4452840" y="3143160"/>
            <a:ext cx="4159440" cy="326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6328"/>
          <p:cNvPicPr/>
          <p:nvPr/>
        </p:nvPicPr>
        <p:blipFill>
          <a:blip r:embed="rId2"/>
          <a:stretch/>
        </p:blipFill>
        <p:spPr>
          <a:xfrm>
            <a:off x="3809880" y="3143160"/>
            <a:ext cx="48024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4274"/>
          <p:cNvPicPr/>
          <p:nvPr/>
        </p:nvPicPr>
        <p:blipFill>
          <a:blip r:embed="rId1"/>
          <a:stretch/>
        </p:blipFill>
        <p:spPr>
          <a:xfrm>
            <a:off x="3581280" y="3083040"/>
            <a:ext cx="5031000" cy="332100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6234"/>
          <p:cNvPicPr/>
          <p:nvPr/>
        </p:nvPicPr>
        <p:blipFill>
          <a:blip r:embed="rId1"/>
          <a:stretch/>
        </p:blipFill>
        <p:spPr>
          <a:xfrm>
            <a:off x="3809880" y="3124080"/>
            <a:ext cx="480240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6328"/>
          <p:cNvPicPr/>
          <p:nvPr/>
        </p:nvPicPr>
        <p:blipFill>
          <a:blip r:embed="rId1"/>
          <a:stretch/>
        </p:blipFill>
        <p:spPr>
          <a:xfrm>
            <a:off x="3809880" y="3143160"/>
            <a:ext cx="4802400" cy="326088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6279"/>
          <p:cNvPicPr/>
          <p:nvPr/>
        </p:nvPicPr>
        <p:blipFill>
          <a:blip r:embed="rId1"/>
          <a:stretch/>
        </p:blipFill>
        <p:spPr>
          <a:xfrm>
            <a:off x="3809880" y="3146400"/>
            <a:ext cx="48340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от и птицы улетают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ети осень провожают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По аллеям разбежались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етер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Nature_30"/>
          <p:cNvPicPr/>
          <p:nvPr/>
        </p:nvPicPr>
        <p:blipFill>
          <a:blip r:embed="rId1"/>
          <a:srcRect l="0" t="0" r="0" b="10"/>
          <a:stretch/>
        </p:blipFill>
        <p:spPr>
          <a:xfrm>
            <a:off x="4038480" y="3133800"/>
            <a:ext cx="448020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сё вокруг красиво оч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Провожают дети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И листочки золотые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Как флаж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6205"/>
          <p:cNvPicPr/>
          <p:nvPr/>
        </p:nvPicPr>
        <p:blipFill>
          <a:blip r:embed="rId1"/>
          <a:stretch/>
        </p:blipFill>
        <p:spPr>
          <a:xfrm>
            <a:off x="3745080" y="3124080"/>
            <a:ext cx="486720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2253"/>
          <p:cNvPicPr/>
          <p:nvPr/>
        </p:nvPicPr>
        <p:blipFill>
          <a:blip r:embed="rId1"/>
          <a:stretch/>
        </p:blipFill>
        <p:spPr>
          <a:xfrm>
            <a:off x="3659040" y="3090960"/>
            <a:ext cx="49532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074"/>
          <p:cNvPicPr/>
          <p:nvPr/>
        </p:nvPicPr>
        <p:blipFill>
          <a:blip r:embed="rId1"/>
          <a:stretch/>
        </p:blipFill>
        <p:spPr>
          <a:xfrm>
            <a:off x="3659040" y="3068640"/>
            <a:ext cx="4953240" cy="33354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от и астры доцветают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ети осень провож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Опустели все тропинк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У ре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2259"/>
          <p:cNvPicPr/>
          <p:nvPr/>
        </p:nvPicPr>
        <p:blipFill>
          <a:blip r:embed="rId1"/>
          <a:stretch/>
        </p:blipFill>
        <p:spPr>
          <a:xfrm>
            <a:off x="3659040" y="3089160"/>
            <a:ext cx="495324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275"/>
          <p:cNvPicPr/>
          <p:nvPr/>
        </p:nvPicPr>
        <p:blipFill>
          <a:blip r:embed="rId1"/>
          <a:stretch/>
        </p:blipFill>
        <p:spPr>
          <a:xfrm>
            <a:off x="3657600" y="3141720"/>
            <a:ext cx="4943520" cy="326232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сё вокруг красиво оч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Провожают дети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И листочки золотые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Как флаж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003"/>
          <p:cNvPicPr/>
          <p:nvPr/>
        </p:nvPicPr>
        <p:blipFill>
          <a:blip r:embed="rId1"/>
          <a:stretch/>
        </p:blipFill>
        <p:spPr>
          <a:xfrm>
            <a:off x="3659040" y="3089160"/>
            <a:ext cx="4953240" cy="331488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6324"/>
          <p:cNvPicPr/>
          <p:nvPr/>
        </p:nvPicPr>
        <p:blipFill>
          <a:blip r:embed="rId1"/>
          <a:stretch/>
        </p:blipFill>
        <p:spPr>
          <a:xfrm>
            <a:off x="3659040" y="3083040"/>
            <a:ext cx="4930920" cy="333216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9"/>
          <p:cNvSpPr/>
          <p:nvPr/>
        </p:nvSpPr>
        <p:spPr>
          <a:xfrm>
            <a:off x="533520" y="304920"/>
            <a:ext cx="8186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помашем ей рук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Мы ей скажем: «До свида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ья, осень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До свидани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 Идентификатор 104-934-272</dc:creator>
  <dc:description/>
  <dc:language>en-US</dc:language>
  <cp:lastModifiedBy>Палецких Елена</cp:lastModifiedBy>
  <dcterms:modified xsi:type="dcterms:W3CDTF">2012-07-19T09:09:53Z</dcterms:modified>
  <cp:revision>33</cp:revision>
  <dc:subject/>
  <dc:title>До свиданья, осен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